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2569-C3C4-46B6-A25D-31BFF7091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2366-13D4-4FAE-B54B-19F8CCEE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8063-C904-453D-999B-627D4B2A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F5AF-0DC0-420C-B702-97AF4A2EF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51B9-1ABA-470B-9D20-370B7DB98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1210-E3F6-43DC-9BDE-DEEC8AD1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6481-2B39-4C6D-8C96-D16C16E6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B4F3-56B7-4836-BFEE-F06B9041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1E7A-931F-4621-8168-2695C90A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6EC9-C902-4103-AFE8-6CE3186B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DE99-F411-491A-9BA1-C479B1FF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E35A-F502-4B3C-A699-57CCF881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FEB4-F31E-4EB5-A8E7-3EF75632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A2B4-EE3F-4D7A-90FD-E052BAD2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55AE-E28F-4DE6-A42B-45584D37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DC85-C730-451C-8AF1-0FAFC6637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084B-2015-4CCB-B640-45FA0D8C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95D8-20A8-48EC-8D70-5A1F984E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E4FB-C050-4EBF-8B1F-9E052371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5369-4B78-48CE-84CE-EDEEC857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4074-85CC-40FD-876F-B2E2233C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E65F-814E-47E3-BFA4-36A0813C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404E-A553-40F5-9B7E-FDBB1755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9206-FF21-4B36-AFBA-25C2B3E8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11E6-EC2E-4CEB-B237-A25263290EA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0A5B-B0D7-45D4-98FC-97AC312DF99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ectorterciarioven.galeon.com/clasificacion.png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Verdana"/>
              </a:rPr>
              <a:t>EL SECTOR TERCIARIO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28880" y="2043000"/>
            <a:ext cx="528624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Verdana"/>
              </a:rPr>
              <a:t>Clasificación del transport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 transporte se va a clasificar dependiendo del ambiente donde se desarrolle. Donde estos pueden s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3645000"/>
            <a:ext cx="604980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71640" y="736560"/>
            <a:ext cx="7129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Verdana"/>
              </a:rPr>
              <a:t>Turismo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71640" y="1600200"/>
            <a:ext cx="7416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Efectos del Turism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Efectos positivos del turismo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Ingresos elevados para un paí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Crear muchos puestos de trabaj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Permite el contacto entre culturas y facilita el aprendizaje de nuevas lengu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Factores negativos del turism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Provoca grandes impactos medioambient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Tiene un carácter estacional, ya que hay temporadas no turísticas por causas de crisis económicas, guerras y terroris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Contribuye al aumento de prec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Son todas aquellas actividades que constituyen las vías de intercambio, presentación, continuación de productos, y la prestación de servicios dentro de un país, las cuales se ubican en la ultima posición de los sectores pero no por ello es el menos importante. 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Característic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7417080" cy="32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s actividades del sector terciario de un país están constituidas primordialmente por el comercio, los servicios, el transporte y la economía informal, en donde va a depender del desarrollo de los mismo el auge económico del país, gracias a la producción de bien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26920" y="961920"/>
            <a:ext cx="7705800" cy="48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El Comerci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2060280"/>
            <a:ext cx="40384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s una actividad de intercambio que se pone en relación a la producción y el consum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40384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Tipos de Comerci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Interno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 Es aquel intercambio que se realiza en el interior del país, es decir, dentro de una misma localida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Externo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 Es aquel intercambio que se realiza entre dos o más países diferentes; donde estas están dirigidas por las exportaciones que realiza el paí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os Servicio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luyen una diversidad de actividades desempeñadas por un crecido numero de funcionarios que trabajan para el Estado (servicios públicos) o para empresas particulares (servicios privados).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tre los servicios pueden señalarse: la electricidad, agua, aseo, teléfono entre ot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175360" y="1773360"/>
            <a:ext cx="32749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Los Transport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229600" cy="31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Es el medio de traslado de personas o bienes desde un lugar hasta otro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Tipos de Transport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nternos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 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xternos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932360" y="1989000"/>
            <a:ext cx="3168720" cy="2376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00000" y="1989000"/>
            <a:ext cx="2808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9T15:31:09Z</dcterms:created>
  <dc:creator>Lorena</dc:creator>
  <dc:description/>
  <dc:language>en-US</dc:language>
  <cp:lastModifiedBy>Lorena</cp:lastModifiedBy>
  <dcterms:modified xsi:type="dcterms:W3CDTF">2012-03-09T16:41:50Z</dcterms:modified>
  <cp:revision>2</cp:revision>
  <dc:subject/>
  <dc:title>EL SECTOR TERCIARIO</dc:title>
</cp:coreProperties>
</file>